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CA4-53A1-4019-AF8F-DAD35908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2A2-E450-4F95-83A8-C32AF9B6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30D61-570A-4003-B704-09277599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97DD4-9A65-467C-944F-84B9D16D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034A3-A402-452D-B13A-B4B5BB0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7A850-6519-4EAA-8EDE-5B4742DC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AD3CF-A8A3-481D-AF71-D39A396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7D58F-6F90-46B9-85B2-288C6F25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1162F-83AF-4D17-81D7-D81B9EA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5745-94F1-4458-8FB6-2CC04494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21546-53C2-4958-A169-6C6CCFA7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37B-EE4D-4825-A5C0-76429419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27E-BA13-4586-AAD1-A383A685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8D55-C2F7-4DB3-A399-FEC61297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D481-2867-423C-8855-3B953A3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F921-F963-4F2A-BAF5-6697C181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F986-75DF-43A7-96FA-055E755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344-DBB5-4C16-A226-A4E6C2E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6EA9-6EF3-412B-BBB8-4EBA3D8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1CF2-C3E1-4735-82E5-2300B0D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716-85E5-47A8-976F-08B5C16E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C201-A29E-4946-B99D-EE1987B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48A4-C419-4C53-B1D4-069F3F3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CB88-07FC-4AB7-9D06-533951A8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6DD-DE03-4AEC-B11A-C23F924C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E677-1B11-474C-BE9D-28A787CC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5A62C-A51E-4582-8702-FF7857C2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0D50-250D-4E68-BE36-FFAB6F0C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2A61-A802-4969-B2F1-ACD83CFB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C39F-203E-4473-8C35-82C639E0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CCC9-AD6D-4133-9FB9-753EEBAE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D64-65AF-42EB-83FB-83AF913F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91143-D1ED-46EC-A8B1-B585731E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CF98-C42F-435C-AC8E-10A2F91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C662-8A4A-4F81-A19A-55DEA8B0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07B61-8BB9-437B-909F-1A20D048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363A-EB65-4251-B5A5-2C4A312E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F9562-22D8-492A-9E3D-AB5C32F9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3D18B-32AD-4771-AB07-8985980B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A5A6-31BD-4F9E-9B80-7D5CFFF3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F03F-A56B-4920-96F4-51B88088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312C1-A807-47A3-9416-94AED611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84D-F96F-47A5-807F-3A0D43C6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7A8A5-FF08-418E-80E7-A0D79887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E0B3-8C8B-45CE-9E83-477064E7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1BED-6DE0-4C0E-9010-4FB43037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9F1F-3CE1-4038-A124-564C159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A766-12E0-44A0-A1D2-836F89FE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3DED-8DA6-4CA1-BE5A-8534B968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FF12-BEC5-4C57-BDAC-D7A48E1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4DF3-F176-44B1-B57F-FE5695DD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5AA67-6C03-4A36-88A0-8974C5D7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9807F-7DF4-414C-B66E-87C0FD5F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62C-9F0E-4017-B332-54E9C254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D3E50-4D28-40A9-8488-AA82EE8C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42E5-51C8-4A1D-B55B-AA08097E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6818-BB0F-41A8-B0CF-5BDB9254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A93E8-2238-4C9C-94AD-7988756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09423-F349-45A1-B1D4-EC5CB5AC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DB772-67C9-422E-B84B-B2747BC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2593-8719-4D30-8CBD-99BF8BC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7A96-6F52-45B6-A639-2A6A87D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19DD1-FE41-4A8D-A2D3-C42AC50B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E44C-3DB0-4129-8A88-47394E43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41C-1EAF-460D-9633-34C024D2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43575-64D2-4729-B99C-498A82DA6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D6772-1A3E-45F8-ABE5-4E51CB6B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B01CA-37B8-451B-B49C-E7F23E7E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B5FC-FFF2-42E9-86B0-3226D3B1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94086-24DC-4CB2-9D96-DCF2E8DC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0E061-0EF8-4B28-846D-09EA1A6A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985B-E9DC-43C9-9D5E-729806E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E981-4CA7-47DD-890D-8B28207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6CD1-62CB-4120-8F17-5B9CF66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1D77-3B0E-4F28-86CC-17EFB8A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E1F-E3F9-42F6-AAA6-F5281FB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A0AB-E3F3-4C42-BB9A-9BDF09C5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33F23-958A-482F-BDDD-F01C936A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ECA4E-5C38-49C6-88E5-0B4BF104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BB06F-DE15-4DED-9911-BB39B340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C1481-0617-400B-BC02-FACA1367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4F007-F6CE-46E9-898D-0351CBFF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DDC9F-8A62-43AB-B778-6D780C08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9E67E-B706-4D37-BC2B-115F115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1E875-21B3-4DDC-AAC1-D5EF6425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5ABEE-EC67-4590-862C-08EFE8B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FD1-DC51-41F9-A5FC-3F01ABAD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A1596-3532-4D69-A3B7-016E1F4A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950BC-DB58-409D-9869-1FBA4CD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A33BE-782F-44EB-8CA1-AF94B5F5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F801A-B7BD-4CE8-B54B-85EA70D2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D8242-6814-4AD4-830F-50570C5D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0955C-52A3-42D1-B75F-CA49E60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CB6F0-F618-44C9-8052-25E32C9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71571-BD4F-4D43-BB71-EED65ACC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51AEB-57D1-4B24-9E71-74AB3FC1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38282-6299-4A8F-9D83-413965F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3E6-4038-485B-A0A7-916EBE4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2280" y="27432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5625D-7715-40CC-82A8-BF5BAF37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53A9-2011-44B1-AB16-E383D3D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E440-C4B6-41CE-AB0B-5C39E529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1B56B-5E76-48E2-B7AE-7F00E36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68EE-D3BA-45E4-B9FA-4AC2C31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BC29B-6392-40A4-98CA-F52DC460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E8240-CD64-4D01-97F4-E6573288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0E0E6-C020-4F4D-B4EB-61A6B7BD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763C3-2599-4F3E-A6A9-CF0B5C7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1C348-DDB2-4A41-A9C7-6F3FD0C4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EEF0-470E-415E-B326-B56F04539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DCC-9119-4009-81A5-E568D3688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F9AD-9091-44F1-BAED-58D87FB36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C1CA-2273-427F-AF8D-1A0201B7F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3EEE-1E0D-4922-B25E-9A841A05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22C-9B02-4D75-9E19-A12BAAA1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Click to edit the title text format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1EB-C293-42F1-AD9C-5F3EAAB5B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6251-A5AC-4B97-AAF1-2D14F7B4B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B02-DF61-4945-8EAF-3B5DF9BE3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296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c1c1c"/>
                </a:solidFill>
                <a:latin typeface="ChickenScratch AOE"/>
              </a:rPr>
              <a:t>10.4: complex numbers</a:t>
            </a:r>
            <a:endParaRPr b="0" lang="en-US" sz="96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ickenScratch AOE"/>
              </a:rPr>
              <a:t>November 2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Try a couple…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+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i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Your assignment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12-4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52-6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Objectives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complex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complex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and divide complex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hickenScratch AOE"/>
              </a:rPr>
              <a:t>What is an imaginary number?</a:t>
            </a:r>
            <a:endParaRPr b="0" lang="en-US" sz="48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quare root of a negative is an imaginary numb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(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n is a real numb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√n(-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√n *√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√n *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i√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What is a complex number?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number is a number written in th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+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and b are real numbers and i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+4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i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hickenScratch AOE"/>
              </a:rPr>
              <a:t>Adding and subtracting complex numbers</a:t>
            </a:r>
            <a:endParaRPr b="0" lang="en-US" sz="48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or subtract the real parts (regular num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 or subtract the imaginary parts (the ones with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i+2)+(10i+4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i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i+10)-(12i-2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i +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Try a few…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-7i)+(3-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+(-2+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4+3i) – (-2-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Multiplying complex numbers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i * i =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is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+i)(4-2i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-6i+4i-2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-2i – 2(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-2i 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4 -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Try these…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+3i)(7-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0i-1)(6-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-2i)(3+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ChickenScratch AOE"/>
              </a:rPr>
              <a:t>Dividing complex numbers</a:t>
            </a:r>
            <a:endParaRPr b="0" lang="en-US" sz="5400" spc="-1" strike="noStrike">
              <a:solidFill>
                <a:srgbClr val="1c1c1c"/>
              </a:solidFill>
              <a:latin typeface="ChickenScratch AO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the numerator and the denominator so that the denominator no longer has a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+9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+9i (3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i (3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8i+27i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8i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2i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9:02:23Z</dcterms:created>
  <dc:creator>nuhs</dc:creator>
  <dc:description/>
  <dc:language>en-US</dc:language>
  <cp:lastModifiedBy>nuhs</cp:lastModifiedBy>
  <dcterms:modified xsi:type="dcterms:W3CDTF">2007-11-20T20:25:38Z</dcterms:modified>
  <cp:revision>4</cp:revision>
  <dc:subject/>
  <dc:title>10.4: complex numbers</dc:title>
</cp:coreProperties>
</file>